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20.jpeg" ContentType="image/jpeg"/>
  <Override PartName="/ppt/media/image9.png" ContentType="image/png"/>
  <Override PartName="/ppt/media/image8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5.jpeg" ContentType="image/jpeg"/>
  <Override PartName="/ppt/media/image23.wmf" ContentType="image/x-wmf"/>
  <Override PartName="/ppt/media/image18.jpeg" ContentType="image/jpeg"/>
  <Override PartName="/ppt/media/image22.wmf" ContentType="image/x-wmf"/>
  <Override PartName="/ppt/media/image21.jpeg" ContentType="image/jpeg"/>
  <Override PartName="/ppt/media/image17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15.wmf" ContentType="image/x-wmf"/>
  <Override PartName="/ppt/media/image1.jpeg" ContentType="image/jpeg"/>
  <Override PartName="/ppt/media/image10.png" ContentType="image/png"/>
  <Override PartName="/ppt/media/image2.wmf" ContentType="image/x-wmf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8AF8-55C3-4AA5-86B9-1FF7E1E1E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910B-8C95-4388-8C51-9E9195A23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707D-358B-4C6E-8F9F-CBD3C0945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5670-ACC8-4ABF-979B-271A10352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E909-E115-4D6D-99F6-06D1B8E17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517D-5F3C-4BFD-8C9B-7126281C9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7D54-2490-43E4-9639-95DF84EAA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EC3E-1478-48F9-9CA7-2FD41ADE5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3520" y="2743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A062-71D3-48BB-BD3B-DC56529F6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DCC9-BE69-4BF0-BE84-0C779225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1716-BC66-4C58-AB42-F7B92250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66CD-FA76-48F9-A6A6-F12E0E81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images.google.com/imgres?imgurl=http://www.fotosearch.com/comp/IMZ/IMZ002/jed0020.jpg&amp;imgrefurl=http://www.fotosearch.com/IMZ002/jed0020/&amp;h=300&amp;w=272&amp;sz=21&amp;hl=en&amp;start=303&amp;tbnid=LAvPE1okcJfKqM:&amp;tbnh=116&amp;tbnw=105&amp;prev=/images%3Fq%3Dhearts%26start%3D300%26ndsp%3D20%26svnum%3D10%26hl%3Den%26lr%3D%26sa%3DN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12395-09BF-4368-A3FD-CE3B16706D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304920"/>
            <a:ext cx="1000080" cy="1104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byteland.org/iheartdesigns/classicheart.jpg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www.byteland.org/iheartdesigns/classicheart.jpg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hyperlink" Target="http://www.swp.ie/images/red-flag.gif" TargetMode="External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743200" y="895320"/>
            <a:ext cx="3370320" cy="3295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A Match Made in…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95280" y="45720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Cornelius Adetiba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Jen Karol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pril Keuter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my Margolis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Kristen Rush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77120" y="6324480"/>
            <a:ext cx="2438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ecember 11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6324480"/>
            <a:ext cx="2438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ecision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228600"/>
            <a:ext cx="160020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>
            <a:hlinkClick r:id="rId2"/>
          </p:cNvPr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8153280" y="152280"/>
            <a:ext cx="819360" cy="819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4"/>
          </p:cNvPr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152280" y="152280"/>
            <a:ext cx="819360" cy="819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5800" y="21337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-School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ver Parameter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467000" y="2158920"/>
            <a:ext cx="645768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For the more ambitious dater…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0" y="1599840"/>
            <a:ext cx="6400800" cy="114300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Determine the optimal weekly dating schedule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rovides a rank order of top matches in a user-friendly output 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nables individuals to then select best match based on the day and time he/she wants to go out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2971800"/>
            <a:ext cx="1600200" cy="990720"/>
          </a:xfrm>
          <a:prstGeom prst="rect">
            <a:avLst/>
          </a:prstGeom>
          <a:solidFill>
            <a:srgbClr val="333399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cision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0" y="2971800"/>
            <a:ext cx="6400800" cy="9907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Maximum number of dates desired (given by total per day or total for the week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atisfaction value for each timeslo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4191120"/>
            <a:ext cx="1600200" cy="990360"/>
          </a:xfrm>
          <a:prstGeom prst="rect">
            <a:avLst/>
          </a:prstGeom>
          <a:solidFill>
            <a:srgbClr val="333399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5486400"/>
            <a:ext cx="1600200" cy="990720"/>
          </a:xfrm>
          <a:prstGeom prst="rect">
            <a:avLst/>
          </a:prstGeom>
          <a:solidFill>
            <a:srgbClr val="333399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0" y="4191120"/>
            <a:ext cx="6400800" cy="99036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Maximize individual satisfaction based on day and time of day for possible d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86000" y="5486400"/>
            <a:ext cx="6400800" cy="9907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4320" bIns="13716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Maximum number of dates per da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Maximum number of dates per we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600200"/>
            <a:ext cx="1600200" cy="1143000"/>
          </a:xfrm>
          <a:prstGeom prst="rect">
            <a:avLst/>
          </a:prstGeom>
          <a:solidFill>
            <a:srgbClr val="333399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Date Schedul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182880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ample Inputs: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vailable for 2 dates, Tuesday through Saturday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aximum of 5 dates for week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e have class on Monday nights, so ‘0’ satisfaction rating for that time slot; Maximum satisfaction on Friday and Saturday night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1520" y="3394080"/>
            <a:ext cx="8915400" cy="31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Dating Rank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ow that we’ve identified the days and times for dates, we can use the output of rank order of matches to start filling that dating schedule!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85800" y="2784600"/>
            <a:ext cx="777240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590920" y="1447920"/>
            <a:ext cx="4495680" cy="3809880"/>
          </a:xfrm>
          <a:custGeom>
            <a:avLst/>
            <a:gdLst>
              <a:gd name="textAreaLeft" fmla="*/ 1056600 w 4495680"/>
              <a:gd name="textAreaRight" fmla="*/ 3436200 w 4495680"/>
              <a:gd name="textAreaTop" fmla="*/ 447840 h 3809880"/>
              <a:gd name="textAreaBottom" fmla="*/ 2389680 h 38098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99cc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4876920"/>
            <a:ext cx="2133720" cy="457200"/>
          </a:xfrm>
          <a:prstGeom prst="rect">
            <a:avLst/>
          </a:prstGeom>
          <a:solidFill>
            <a:srgbClr val="bbe0e3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05520" y="4419720"/>
            <a:ext cx="1600200" cy="4572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4800600"/>
            <a:ext cx="1600200" cy="4572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st Match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3962520"/>
            <a:ext cx="4114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14. Stern backpack: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lvl="1" marL="1257480" indent="-533520">
              <a:spcBef>
                <a:spcPts val="550"/>
              </a:spcBef>
              <a:buClr>
                <a:srgbClr val="333399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Hot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lvl="1" marL="1257480" indent="-533520">
              <a:spcBef>
                <a:spcPts val="550"/>
              </a:spcBef>
              <a:buClr>
                <a:srgbClr val="333399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Not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352680" y="2209680"/>
            <a:ext cx="952560" cy="10670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410080" y="2286000"/>
            <a:ext cx="952560" cy="10666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267080" y="3886200"/>
            <a:ext cx="4876920" cy="23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12.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When I grow up I want to be 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-533520">
              <a:spcBef>
                <a:spcPts val="550"/>
              </a:spcBef>
              <a:buClr>
                <a:srgbClr val="333399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Bank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-533520">
              <a:spcBef>
                <a:spcPts val="550"/>
              </a:spcBef>
              <a:buClr>
                <a:srgbClr val="333399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Consult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-533520">
              <a:spcBef>
                <a:spcPts val="550"/>
              </a:spcBef>
              <a:buClr>
                <a:srgbClr val="333399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Marke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-533520">
              <a:spcBef>
                <a:spcPts val="550"/>
              </a:spcBef>
              <a:buClr>
                <a:srgbClr val="333399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O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934320" y="3124080"/>
            <a:ext cx="761760" cy="8193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233880" y="171288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oly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07640" y="17524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590920" y="1447920"/>
            <a:ext cx="4495680" cy="3809880"/>
          </a:xfrm>
          <a:custGeom>
            <a:avLst/>
            <a:gdLst>
              <a:gd name="textAreaLeft" fmla="*/ 1056600 w 4495680"/>
              <a:gd name="textAreaRight" fmla="*/ 3436200 w 4495680"/>
              <a:gd name="textAreaTop" fmla="*/ 447840 h 3809880"/>
              <a:gd name="textAreaBottom" fmla="*/ 2389680 h 38098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c99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4800600"/>
            <a:ext cx="7467480" cy="5335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st Match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4114440"/>
            <a:ext cx="80010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19. The unflushed toilet in a public restroom should be handled by: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lvl="1" marL="1257480" indent="-533520">
              <a:spcBef>
                <a:spcPts val="601"/>
              </a:spcBef>
              <a:buClr>
                <a:srgbClr val="333399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inding another stall with a pre-flushed toile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1257480" indent="-533520">
              <a:spcBef>
                <a:spcPts val="601"/>
              </a:spcBef>
              <a:buClr>
                <a:srgbClr val="333399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mmediately departing from the establishment in disgus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1257480" indent="-533520">
              <a:spcBef>
                <a:spcPts val="601"/>
              </a:spcBef>
              <a:buClr>
                <a:srgbClr val="333399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lushing the damn thing and carrying 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238560" y="2286000"/>
            <a:ext cx="952560" cy="1066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486400" y="2286000"/>
            <a:ext cx="952560" cy="10666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640840" y="175248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78520" y="17524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n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del Limit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9907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 data collection process can be tedious, so our data sample is not comprehensiv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2895480"/>
            <a:ext cx="8229600" cy="15242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dividuals are given a pre-determined set of answers which may not reflect each individual’s true dating pre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4724280"/>
            <a:ext cx="8229600" cy="15242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Arial"/>
              </a:rPr>
              <a:t>Based on the nature of the questions, your “best match” will not necessarily lead to true lo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620120" y="5865840"/>
            <a:ext cx="13716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uture Extens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1600200"/>
            <a:ext cx="1676520" cy="990720"/>
          </a:xfrm>
          <a:prstGeom prst="rect">
            <a:avLst/>
          </a:prstGeom>
          <a:solidFill>
            <a:srgbClr val="333399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 Sampl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0" y="1600200"/>
            <a:ext cx="6400800" cy="9907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This model is easily scal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We could distribute this survey during pre-term to all MBA students to find their optimal match within all of Ste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2819520"/>
            <a:ext cx="1676520" cy="990360"/>
          </a:xfrm>
          <a:prstGeom prst="rect">
            <a:avLst/>
          </a:prstGeom>
          <a:solidFill>
            <a:srgbClr val="333399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orporate Additional Sch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0" y="2819520"/>
            <a:ext cx="6400800" cy="99036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clude other business schools (attending Columbia would clearly be a Deal Break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corporate other NYU Graduate (or Undergrad) sch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5257800"/>
            <a:ext cx="1676520" cy="990720"/>
          </a:xfrm>
          <a:prstGeom prst="rect">
            <a:avLst/>
          </a:prstGeom>
          <a:solidFill>
            <a:srgbClr val="333399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eate Partner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0" y="5257800"/>
            <a:ext cx="6400800" cy="9907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artner with MySpace.com to help people form relationships more easily over the 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4038480"/>
            <a:ext cx="1676520" cy="990720"/>
          </a:xfrm>
          <a:prstGeom prst="rect">
            <a:avLst/>
          </a:prstGeom>
          <a:solidFill>
            <a:srgbClr val="333399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 Model Func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4038480"/>
            <a:ext cx="6400800" cy="9907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xpand questions and answer choices to make more meaningful match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llow people to find friend matches, not just romantic mat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895480" y="1447920"/>
            <a:ext cx="3354480" cy="23684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743200" y="4127400"/>
            <a:ext cx="3886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Monotype Corsiva"/>
              </a:rPr>
              <a:t>Question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228600"/>
            <a:ext cx="167652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 </a:t>
            </a: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Important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121896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eople in happy, stable, committed relationships tend to be far happier than those who aren't.”                            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-- University of Chicago's National Opinion Research Center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3505320"/>
            <a:ext cx="8305920" cy="76176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Un-partnered people report the lowest levels of well-being.”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       -- Cornell University, 2005 Stu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648320"/>
            <a:ext cx="8305920" cy="144756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aving a romantic relationship makes both men and women happier -- and the stronger the relationship's commitment, the greater the happiness and sense of well- being of the partners.”  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-- Cornell University, 2005 Stu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</a:t>
            </a: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Realistic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Proble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4266720"/>
            <a:ext cx="609588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Unhappy Students = Unproductive Students…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25360" indent="-225360"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tern’s rankings could drop again!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934320" y="3886200"/>
            <a:ext cx="1763640" cy="20574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69960" y="1676520"/>
            <a:ext cx="7864560" cy="28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ith all of the studying, recruiting events, and club activities, many MBA students have little time to find their perfect m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any students spend their two years in business school </a:t>
            </a:r>
            <a:r>
              <a:rPr b="0" i="1" lang="en-US" sz="2800" spc="-1" strike="noStrike">
                <a:solidFill>
                  <a:srgbClr val="99cc00"/>
                </a:solidFill>
                <a:latin typeface="Arial"/>
              </a:rPr>
              <a:t>alone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99cc00"/>
                </a:solidFill>
                <a:latin typeface="Arial"/>
              </a:rPr>
              <a:t>unhap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r Solution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2819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V-Hookup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odel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ave time and energy (and embarrassing drunken conversations) trying to find your optimal match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elp you develop more stable relationships </a:t>
            </a:r>
            <a:r>
              <a:rPr b="0" lang="en-US" sz="24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Increased happines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Your perfect match could be right under your nose…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1" name="" descr="Divorcing couple"/>
          <p:cNvPicPr/>
          <p:nvPr/>
        </p:nvPicPr>
        <p:blipFill>
          <a:blip r:embed="rId1"/>
          <a:stretch/>
        </p:blipFill>
        <p:spPr>
          <a:xfrm>
            <a:off x="990720" y="4915080"/>
            <a:ext cx="2857320" cy="1714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104840" y="4419720"/>
            <a:ext cx="2819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o from thi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4419720"/>
            <a:ext cx="1905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o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rcRect l="0" t="0" r="0" b="5554"/>
          <a:stretch/>
        </p:blipFill>
        <p:spPr>
          <a:xfrm>
            <a:off x="5477040" y="4952880"/>
            <a:ext cx="2447640" cy="16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4114800" y="5257800"/>
            <a:ext cx="990720" cy="685800"/>
          </a:xfrm>
          <a:prstGeom prst="rightArrow">
            <a:avLst>
              <a:gd name="adj1" fmla="val 50000"/>
              <a:gd name="adj2" fmla="val 36115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71920" y="3745080"/>
            <a:ext cx="36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r sitting right next to you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ata Collec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1371600"/>
            <a:ext cx="8610480" cy="205740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Gathered data from 27 students: 15 females &amp; 12 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Asked students to provide answers to 20 multiple choic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Required students to rank the importance of each question on a scale from 1-5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1: I don’t care one way or the ot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2: Might irritate me a little bit if the person I date doesn’t have this quality, but it’s not a big de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3: I would prefer that the person I date have this 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4: It’s pretty important that the person I date have this 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5: It’s extremely important that the person I date have this 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X: Non-negotiable (I would never date someone who didn’t match this qual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34290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04840" y="3733920"/>
            <a:ext cx="87343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del Breakdow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905120"/>
            <a:ext cx="1600200" cy="990360"/>
          </a:xfrm>
          <a:prstGeom prst="rect">
            <a:avLst/>
          </a:prstGeom>
          <a:solidFill>
            <a:srgbClr val="333399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cision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1905120"/>
            <a:ext cx="6400800" cy="99036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ach individual student’s dating pre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ow highly the given student values each character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3505320"/>
            <a:ext cx="1600200" cy="990360"/>
          </a:xfrm>
          <a:prstGeom prst="rect">
            <a:avLst/>
          </a:prstGeom>
          <a:solidFill>
            <a:srgbClr val="333399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5029200"/>
            <a:ext cx="1600200" cy="990720"/>
          </a:xfrm>
          <a:prstGeom prst="rect">
            <a:avLst/>
          </a:prstGeom>
          <a:solidFill>
            <a:srgbClr val="333399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86000" y="3505320"/>
            <a:ext cx="6400800" cy="99036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ntify the most optimal date for a given pair of students by creating a match that maximizes their joint satisfaction s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nsure that all non-negotiable situations are hono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5029200"/>
            <a:ext cx="6400800" cy="9907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haracteristics which were identified as non-negotiable must be consid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tches were made between males and females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rcRect l="0" t="0" r="0" b="10159"/>
          <a:stretch/>
        </p:blipFill>
        <p:spPr>
          <a:xfrm>
            <a:off x="3657600" y="1828800"/>
            <a:ext cx="26845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No Seriously…The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91440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e used Evolutionary Solver to find each person’s optimal match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39846" t="22917" r="30367" b="56253"/>
          <a:stretch/>
        </p:blipFill>
        <p:spPr>
          <a:xfrm>
            <a:off x="4876920" y="2660760"/>
            <a:ext cx="3352680" cy="17589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rcRect l="39846" t="36462" r="37502" b="46877"/>
          <a:stretch/>
        </p:blipFill>
        <p:spPr>
          <a:xfrm>
            <a:off x="5029200" y="4643280"/>
            <a:ext cx="3048120" cy="16812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rcRect l="39846" t="41335" r="31253" b="40626"/>
          <a:stretch/>
        </p:blipFill>
        <p:spPr>
          <a:xfrm>
            <a:off x="762120" y="4724280"/>
            <a:ext cx="3352680" cy="1570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rcRect l="2411" t="21012" r="71095" b="60422"/>
          <a:stretch/>
        </p:blipFill>
        <p:spPr>
          <a:xfrm>
            <a:off x="914400" y="2673360"/>
            <a:ext cx="312408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Identifying Your Perfect Match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2673" t="41064" r="66152" b="25919"/>
          <a:stretch/>
        </p:blipFill>
        <p:spPr>
          <a:xfrm>
            <a:off x="1905120" y="1905120"/>
            <a:ext cx="586728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0T21:09:58Z</dcterms:created>
  <dc:creator>Stern School of Business</dc:creator>
  <dc:description/>
  <dc:language>en-US</dc:language>
  <cp:lastModifiedBy>Amy Margolis</cp:lastModifiedBy>
  <dcterms:modified xsi:type="dcterms:W3CDTF">2006-12-11T18:22:41Z</dcterms:modified>
  <cp:revision>15</cp:revision>
  <dc:subject/>
  <dc:title>Match Maker</dc:title>
</cp:coreProperties>
</file>